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E3A-1731-430C-BB72-4B77EC065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20B-2DDA-4857-886D-45192FE59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B7E-F999-4275-A67B-A0F34107C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C7D-835A-4008-AA47-6F8CA27BB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648-44F4-4135-B5AA-35BEFF9F8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BA56-F374-4D7C-B522-7A20C9951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F7E-D6A3-4899-B3FC-11643FFC5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A76-E8A8-45AB-9DD9-F44A81444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C28-C2ED-4961-96A1-7FB14017D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E8A0-4427-4F08-9438-7ECC8F9F3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587-0093-4EF6-9C83-1BA9F4F02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187-C2B1-455D-A7E7-E9F108FD5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70F-12EF-40B2-9E1F-96A0B8C5E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D3B-33C8-4E2E-95EA-B43260663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127-CE2C-4110-8796-3A6932A42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4D0-DFF7-49DE-9C50-664580A59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30DE-92E3-4B1E-ACC4-5337A9E8F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508-8A67-4524-9653-B0416DD95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A4E-F6BD-426C-8916-221576529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9BE-E764-4DFF-AD0A-48222F8B6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E4C6-0689-41B3-A62A-E5E414C59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9A4-0042-41B8-B743-7AD9652FE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A02-DB56-4F3E-A8DB-EDF9761F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6C7-6113-45E4-87F8-C38EECD0E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4335-3A6D-43EB-8276-87927C18B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0AF-F0DA-4BB2-9AC4-7E672E8D8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0D6-F78C-487A-87C1-370505149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9DC-A1A3-4FE1-98D4-D994A06B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EC35-B9EF-4BCA-9C92-CA4AB61B2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59DD-80DF-419E-A3D6-4B32F6E4C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C51-9008-435C-B86D-7B60A93B5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286-8C6A-4763-8EC4-E06FA944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D5A-3485-454D-A890-C1504A5F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5DB-EB00-4E05-9773-955A2D09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77F-72F1-4B34-ACCA-B5443287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F47-0C45-41C4-9C11-055C318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27-6651-4F62-917F-1C08AB29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1B5-CF13-4D5B-ABE0-C45FE8D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C1F-9F9A-4538-8049-8FDB2ED8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5F6-4E9A-4D33-AFDC-57D04AB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671-958C-4A07-9D38-9E91ED3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85E-B33C-4644-A828-21A22BD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4F4-1E53-4998-9D1D-F32ADB6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4E66-869F-4140-9C14-790663311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45BE-8530-4087-A198-7488FEA0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87320"/>
            <a:ext cx="9144000" cy="64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te each sit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 As prey pop. increases, predator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 As prey pop. decreases, predator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. As predator pop. increases, prey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4. As predator pop. decreases, prey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5. Which of the following represents a correct ecological hierarc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iosphere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410080" y="914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abbreviate #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417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s were once widely used as propellant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eros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s and as coolan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frigerator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ree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CFC research was done, most use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FC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ann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however, CFC molecules can stick around for as long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10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years, so their effects are still being fe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014800" y="1957320"/>
            <a:ext cx="3305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level o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CFC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s already bega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al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suggesting that the CFC ban wor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 data predicts that the ozon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ol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uld shrink and disappear with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534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fe on Earth depends on specif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ditions, so any change in climate could cause maj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1800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arth’s surface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is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0.6 Celsius degrees and since 1980, average temperatures have risen between 0.2 and 0.3 degrees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average temperature of the biosphere is known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324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248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idence of Global Warm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lt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ar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ntrati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bon dioxid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atmosphere have been rising for 200 years due to human activities such as the cutting and burning of forests and the burning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reenhouse effect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in which the production of infrared radiation by the atmosphere causes the warming of Earth’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ing carbon dioxide increases the atmosphere’s natural greenhouse effect, causing the atmosphere to retain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67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s of Global Warm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erage global surface temperatures  wi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ncr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y 1 to 2 Celsius degrees by the ye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20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a leve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ise enough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loo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ome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sms ma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reaten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648320" y="253044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405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32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mate Change WS / Global Temp.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295280" y="6019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cology Quiz 2 Friday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06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yer of atmosphere that protects earth from harmful UV radiation is called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used the hole in the oz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F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adual warming of the earth is called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ety of life on earth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se management of organisms and preservation of habitats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629040" y="236232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ui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0323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cology Quiz 2 Frida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ome Brochure Due Next Fri. (Feb. 1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68656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ers are gathering data to monitor and evaluate the effects of human activities on important systems in the biosphere.  Two of these syste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Climat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-the atmosphere betw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m above Earth’s surface that contains a relatively high concentr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es of ozone consi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xygen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ozone at ground level is a pollutant, the naturally occurring ozone layer is very 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zone layer absorbs a lot of harmfu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ltravio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V) radiation from sunlight before it reaches Earth’s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5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UV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adiation caus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unbur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but it can also ca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anc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dam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y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and decrease an organism’s resistance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V radiation can also damage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fore the ozone layer serves as the Earth’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un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0528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1970s, scientists discover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o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 the ozone layer ab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ntarc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n the hole has grow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a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have also found that gas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hlorofluorocarb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 CFCs, can damage the ozone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20:43Z</dcterms:created>
  <dc:creator>Owner</dc:creator>
  <dc:description/>
  <dc:language>en-US</dc:language>
  <cp:lastModifiedBy>Angela Gorney</cp:lastModifiedBy>
  <dcterms:modified xsi:type="dcterms:W3CDTF">2011-02-05T22:16:45Z</dcterms:modified>
  <cp:revision>64</cp:revision>
  <dc:subject/>
  <dc:title>Climate Change</dc:title>
</cp:coreProperties>
</file>